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7E9C-4AE1-49F8-9301-4AD3E66D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574B-E201-4A72-BDA5-1D32A78E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2A89-0B8C-42DD-AF6F-D62FD9F2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C236-2BC8-47DA-A2B9-7396ED60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5048-8F54-480A-8E7E-0E922EB4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6FFC-687A-4734-9B25-14F135DE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69AB-66ED-4A05-9EA6-DB15F265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BAF5-AC84-439D-9F19-C1E21938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CFDB-B2D4-47E4-8D25-D4C2986B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8A09-B9BF-46AF-A584-B974F9DF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3450-8049-4C1C-92E8-83FD9361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54FA-9583-46DE-860C-C33BFDC6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1DAA-6F23-405F-96D4-5384C4CC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5823-5CEE-45F2-BBDD-981A45A2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1923-F6F9-4F95-A60D-3B7E7269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7FF3-C2F2-4975-875B-278D184A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5984-F0F6-4F7A-BEBC-6775D13D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5896-CCF7-40FC-8DB3-2E5B93DB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2CDC-F235-4687-8F56-C5228F2A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3143-F103-4DBD-92AE-44BEEB64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D973-6696-4EEF-B95D-6CB58A34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CFE0-5836-4647-839D-E8FCAB33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E95-157B-4270-B1AD-9F7600FF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FFE6-2DC7-4822-AADA-E6AF972E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5775-961B-476F-9BCC-E5F89A4C3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8292-47A9-4EB0-8979-ECE496A00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est Groups - Abor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54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ber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ILY’s List (Early Money Is Like Yea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ed Parent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ervativ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Abortion Rights Action League (NA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Right to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est Groups – Civil Righ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Organization for Women (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Association for the Advancement of Colored People (NAA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-Defamation Lea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Civil Liberties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nbow/PUSH Coal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Center for Political and Economic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Indian Movement (A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Lobbyists Exis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vages in American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oints of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Parties are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3200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Interest 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426708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al (or Sect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hip (or Single Issu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 peop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stitutional Organiz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sector of the American economy that needs “protection” from other groups (external and inter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ition of groups who have same goal (even if they are competitors of each ot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Chamber of 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 Lob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bacco Lob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mbership Organiz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t to make a person’s voice louder, so the government can hear it (generally members are “hardcore” believers of ca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have “sympathetic” support from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A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rra Cl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do people join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2880" y="1523520"/>
            <a:ext cx="79707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en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lidary (social benef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groups exist to help National Organization do the “heavy lifting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terial (economic benef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s people to an organization to increase clout (in numbers and mon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posive (ideological benef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Movements (often helps non-memb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, Civil Rights, Feminism, 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143000" y="1676520"/>
          <a:ext cx="7620120" cy="42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7620120" cy="42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business of expressing your viewpoints…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990720" y="407880"/>
          <a:ext cx="5943600" cy="584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07880"/>
                    <a:ext cx="5943600" cy="58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879800" y="304920"/>
          <a:ext cx="3959280" cy="502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9800" y="304920"/>
                    <a:ext cx="39592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est Groups – Educ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54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ber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Federation of Teachers (A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Education Association (N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ervativ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for Education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al Excellenc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est Groups – Environ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54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rra Cl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Wildlife Federation (NW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n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 Defense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Forestry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iance for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 for the Defense of Free Enter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est Groups – Gay Righ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54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y &amp; Lesbian Alliance Against Defamation (GLA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Cabin Republ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Rights Campa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Family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Research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est Groups – Gun Contro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54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ence Policy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ition to Stop Gun Violence (CSG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dy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izens Committee for the Right to Keep and Bear 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n Owners of America (G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Rifle Association (N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est Groups – Health Ca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54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Medical Association (A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Public Health Association (APH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Council on Science and Health (AC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s Against Drunk Driving (MAD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est Groups – Immig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54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b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Immigration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er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for Immigration Studies (C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tion for American Immigration Reform (F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est Groups – Un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54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L-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 Workers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itage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Right t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Chamber of Comme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est Groups – Social Secur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54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Association of Retired Persons (AAR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o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20:28:01Z</dcterms:created>
  <dc:creator>Brent J. Freccia</dc:creator>
  <dc:description/>
  <dc:language>en-US</dc:language>
  <cp:lastModifiedBy>Brent J. Freccia</cp:lastModifiedBy>
  <dcterms:modified xsi:type="dcterms:W3CDTF">2008-12-17T14:13:25Z</dcterms:modified>
  <cp:revision>2</cp:revision>
  <dc:subject/>
  <dc:title>What is their problem?</dc:title>
</cp:coreProperties>
</file>